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5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6.wmf" ContentType="image/x-wmf"/>
  <Override PartName="/ppt/media/image7.png" ContentType="image/png"/>
  <Override PartName="/ppt/media/image8.wmf" ContentType="image/x-wmf"/>
  <Override PartName="/ppt/media/image11.jpeg" ContentType="image/jpeg"/>
  <Override PartName="/ppt/media/image9.jpeg" ContentType="image/jpeg"/>
  <Override PartName="/ppt/media/image12.wmf" ContentType="image/x-wmf"/>
  <Override PartName="/ppt/media/image13.jpeg" ContentType="image/jpeg"/>
  <Override PartName="/ppt/media/image30.jpeg" ContentType="image/jpeg"/>
  <Override PartName="/ppt/media/image31.jpeg" ContentType="image/jpeg"/>
  <Override PartName="/ppt/media/image4.wmf" ContentType="image/x-wmf"/>
  <Override PartName="/ppt/media/image3.png" ContentType="image/pn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wmf" ContentType="image/x-wmf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.wmf" ContentType="image/x-wmf"/>
  <Override PartName="/ppt/media/image21.jpeg" ContentType="image/jpeg"/>
  <Override PartName="/ppt/media/image24.jpeg" ContentType="image/jpeg"/>
  <Override PartName="/ppt/media/image2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B30F-BC32-4AE6-A5A3-689C87E23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kins was passed in August 2006 for a 6 year period –FY2012.  States have three years in which to implement a program of study in districts receiving Perkins doll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71FF-E5B7-4BB9-8E54-ABCA6A3CE3B8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district may select an area other than FCS in which to create a program of study but that does not mean that it is not something you should ignore. You need to be at the table.  You can lead the way by creating a program a study within your department and most likely you offer a course in your program that will support other programs of study.  Programs of study just make good se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7957-8477-4FAE-AEEF-DCD7FBFB3641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s then? 1909 or what year? How does life expectancy tie into what FCS has accomplish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8C7D-3A89-4DB3-BAA0-703F997384BD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5024-210D-4D87-A7C3-BF25D3E26731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 we define Program of Study?  Perkins requires that districts offer students Programs of Study that   1. include coherent &amp; rigorous CTE content aligned with challenging academic standards  2.  provide students the opportunity to participate in dual or concurrent enrollment programs or other ways to acquire postsecondary credits 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Lead to an industry recognized credenti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hanged end of year to end of program assessments.  Students who have completed 3 credits in a sequence will be the ones required to take the tes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83DB-F37F-460B-B4AB-5086DE0621D9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7A41-3115-4EE7-B21B-D0F0FE9F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2BE3-E05F-4D57-92D6-DE5EBB2B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B07B-E4C7-4703-8E8D-CC373FB58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FDB8-16E5-4F8B-98EE-A6458015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21E8-4FF7-45DF-A00D-C34887037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D20F-AA39-44B1-BE31-6BC88CCB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09D8-4021-445C-AFBA-06BBBF49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535E-CB07-41D6-A418-B6B3A8CE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D712-3FD7-4817-889F-9679E17E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C99F-954B-4EAA-86AF-B53C2D20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1D93-8912-4E1A-A8C2-CE75ADE9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9C98-C9E4-45FE-A760-B5EFDADA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E3B7-36E7-4041-913D-340997B6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9483-7065-4A44-8A13-3FBDC715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9168-A20D-4D61-91F7-1EAEE8D1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FC58-901A-4622-9F1B-51CAE764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B9EB-8FAC-4283-8A2A-87F78734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E66C1-475E-4128-958A-CD0E63564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CDC57-880A-407D-AE5F-E68468E7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52440-1E3C-434C-ADFD-82A9F4FC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C3015-C4AB-421A-A4EA-AA00DFA5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5746E-1FE0-48DC-AE23-36CF4751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0DB3-553B-4408-9487-1877EE31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84C2B-FE96-49F3-9777-806AD2B7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17A8A-037B-43DD-9FFA-02F8171D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7F483-13A8-4078-BD29-21A1B819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23735-38B0-4F26-B8C8-5D4821FD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F1267-71F9-4512-BF54-9CC312C5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4B3FB-754E-4090-A9CD-9D2955B4B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05066-1A95-408D-B790-D94C361ED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1BC5-4A25-4B72-9F12-04CE6AE4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5A5E-D653-40C7-AA98-0A8014A6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1E2E-D30F-4D4D-8C7F-1CB14F9E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5CE4-23E4-44DD-B297-E8D200B3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1BDA-3BDC-4B3A-85E2-E544DA62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C127-54D7-487D-B110-30812363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11160" y="-3240"/>
            <a:ext cx="9166320" cy="6897600"/>
            <a:chOff x="-11160" y="-3240"/>
            <a:chExt cx="9166320" cy="6897600"/>
          </a:xfrm>
        </p:grpSpPr>
        <p:grpSp>
          <p:nvGrpSpPr>
            <p:cNvPr id="1" name="Group 19"/>
            <p:cNvGrpSpPr/>
            <p:nvPr/>
          </p:nvGrpSpPr>
          <p:grpSpPr>
            <a:xfrm>
              <a:off x="-11160" y="15840"/>
              <a:ext cx="9166320" cy="6878520"/>
              <a:chOff x="-11160" y="15840"/>
              <a:chExt cx="9166320" cy="6878520"/>
            </a:xfrm>
          </p:grpSpPr>
          <p:sp>
            <p:nvSpPr>
              <p:cNvPr id="2" name="Freeform 8"/>
              <p:cNvSpPr/>
              <p:nvPr/>
            </p:nvSpPr>
            <p:spPr>
              <a:xfrm>
                <a:off x="-11160" y="1836720"/>
                <a:ext cx="2268720" cy="2709720"/>
              </a:xfrm>
              <a:prstGeom prst="pie">
                <a:avLst/>
              </a:prstGeom>
              <a:gradFill rotWithShape="0">
                <a:gsLst>
                  <a:gs pos="0">
                    <a:srgbClr val="7176bb"/>
                  </a:gs>
                  <a:gs pos="100000">
                    <a:srgbClr val="00007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3" name="Freeform 9"/>
              <p:cNvSpPr/>
              <p:nvPr/>
            </p:nvSpPr>
            <p:spPr>
              <a:xfrm>
                <a:off x="108000" y="15840"/>
                <a:ext cx="838080" cy="787320"/>
              </a:xfrm>
              <a:prstGeom prst="pie">
                <a:avLst/>
              </a:prstGeom>
              <a:gradFill rotWithShape="0">
                <a:gsLst>
                  <a:gs pos="0">
                    <a:srgbClr val="fcab40"/>
                  </a:gs>
                  <a:gs pos="100000">
                    <a:srgbClr val="00007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4" name="Freeform 10"/>
              <p:cNvSpPr/>
              <p:nvPr/>
            </p:nvSpPr>
            <p:spPr>
              <a:xfrm>
                <a:off x="1192320" y="353880"/>
                <a:ext cx="2266920" cy="2270160"/>
              </a:xfrm>
              <a:prstGeom prst="pie">
                <a:avLst/>
              </a:pr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5" name="Freeform 11"/>
              <p:cNvSpPr/>
              <p:nvPr/>
            </p:nvSpPr>
            <p:spPr>
              <a:xfrm>
                <a:off x="2532240" y="1270080"/>
                <a:ext cx="3670200" cy="367164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6" name="Freeform 13"/>
              <p:cNvSpPr/>
              <p:nvPr/>
            </p:nvSpPr>
            <p:spPr>
              <a:xfrm>
                <a:off x="3240" y="4797360"/>
                <a:ext cx="3417840" cy="2097000"/>
              </a:xfrm>
              <a:prstGeom prst="pie">
                <a:avLst/>
              </a:prstGeom>
              <a:solidFill>
                <a:srgbClr val="0000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" name="Freeform 14"/>
              <p:cNvSpPr/>
              <p:nvPr/>
            </p:nvSpPr>
            <p:spPr>
              <a:xfrm>
                <a:off x="4494240" y="4425840"/>
                <a:ext cx="2263680" cy="2264040"/>
              </a:xfrm>
              <a:prstGeom prst="pie">
                <a:avLst/>
              </a:pr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8" name="Freeform 15"/>
              <p:cNvSpPr/>
              <p:nvPr/>
            </p:nvSpPr>
            <p:spPr>
              <a:xfrm>
                <a:off x="5646600" y="487440"/>
                <a:ext cx="2928960" cy="293040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" name="Freeform 16"/>
              <p:cNvSpPr/>
              <p:nvPr/>
            </p:nvSpPr>
            <p:spPr>
              <a:xfrm>
                <a:off x="7147080" y="2556000"/>
                <a:ext cx="2008080" cy="399708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555ba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pic>
          <p:nvPicPr>
            <p:cNvPr id="10" name="Picture 12" descr="Facbanna"/>
            <p:cNvPicPr/>
            <p:nvPr/>
          </p:nvPicPr>
          <p:blipFill>
            <a:blip r:embed="rId2"/>
            <a:stretch/>
          </p:blipFill>
          <p:spPr>
            <a:xfrm>
              <a:off x="3240" y="-3240"/>
              <a:ext cx="8031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fcab4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7176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4B43-E04E-48CF-865F-B545AF2BBBE9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BF42-6A2E-4720-982D-7658AED6F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3"/>
          <p:cNvGrpSpPr/>
          <p:nvPr/>
        </p:nvGrpSpPr>
        <p:grpSpPr>
          <a:xfrm>
            <a:off x="-11160" y="-3240"/>
            <a:ext cx="9166320" cy="6897600"/>
            <a:chOff x="-11160" y="-3240"/>
            <a:chExt cx="9166320" cy="6897600"/>
          </a:xfrm>
        </p:grpSpPr>
        <p:grpSp>
          <p:nvGrpSpPr>
            <p:cNvPr id="94" name="Group 22"/>
            <p:cNvGrpSpPr/>
            <p:nvPr/>
          </p:nvGrpSpPr>
          <p:grpSpPr>
            <a:xfrm>
              <a:off x="-11160" y="-360"/>
              <a:ext cx="9166320" cy="6894720"/>
              <a:chOff x="-11160" y="-360"/>
              <a:chExt cx="9166320" cy="6894720"/>
            </a:xfrm>
          </p:grpSpPr>
          <p:sp>
            <p:nvSpPr>
              <p:cNvPr id="95" name="Freeform 3"/>
              <p:cNvSpPr/>
              <p:nvPr/>
            </p:nvSpPr>
            <p:spPr>
              <a:xfrm>
                <a:off x="-11160" y="1836720"/>
                <a:ext cx="2268720" cy="2709720"/>
              </a:xfrm>
              <a:prstGeom prst="pie">
                <a:avLst/>
              </a:prstGeom>
              <a:gradFill rotWithShape="0">
                <a:gsLst>
                  <a:gs pos="0">
                    <a:srgbClr val="7176bb"/>
                  </a:gs>
                  <a:gs pos="100000">
                    <a:srgbClr val="00007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6" name="Freeform 4"/>
              <p:cNvSpPr/>
              <p:nvPr/>
            </p:nvSpPr>
            <p:spPr>
              <a:xfrm>
                <a:off x="108000" y="15840"/>
                <a:ext cx="838080" cy="787320"/>
              </a:xfrm>
              <a:prstGeom prst="pie">
                <a:avLst/>
              </a:prstGeom>
              <a:gradFill rotWithShape="0">
                <a:gsLst>
                  <a:gs pos="0">
                    <a:srgbClr val="fcab40"/>
                  </a:gs>
                  <a:gs pos="100000">
                    <a:srgbClr val="00007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7" name="Freeform 5"/>
              <p:cNvSpPr/>
              <p:nvPr/>
            </p:nvSpPr>
            <p:spPr>
              <a:xfrm>
                <a:off x="1192320" y="353880"/>
                <a:ext cx="2266920" cy="2270160"/>
              </a:xfrm>
              <a:prstGeom prst="pie">
                <a:avLst/>
              </a:pr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8" name="Freeform 6"/>
              <p:cNvSpPr/>
              <p:nvPr/>
            </p:nvSpPr>
            <p:spPr>
              <a:xfrm>
                <a:off x="2532240" y="1270080"/>
                <a:ext cx="3670200" cy="367164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9" name="Freeform 8"/>
              <p:cNvSpPr/>
              <p:nvPr/>
            </p:nvSpPr>
            <p:spPr>
              <a:xfrm>
                <a:off x="3240" y="4797360"/>
                <a:ext cx="3417840" cy="2097000"/>
              </a:xfrm>
              <a:prstGeom prst="pie">
                <a:avLst/>
              </a:prstGeom>
              <a:solidFill>
                <a:srgbClr val="0000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00" name="Freeform 9"/>
              <p:cNvSpPr/>
              <p:nvPr/>
            </p:nvSpPr>
            <p:spPr>
              <a:xfrm>
                <a:off x="4494240" y="4425840"/>
                <a:ext cx="2263680" cy="2264040"/>
              </a:xfrm>
              <a:prstGeom prst="pie">
                <a:avLst/>
              </a:pr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01" name="Freeform 10"/>
              <p:cNvSpPr/>
              <p:nvPr/>
            </p:nvSpPr>
            <p:spPr>
              <a:xfrm>
                <a:off x="5646600" y="487440"/>
                <a:ext cx="2928960" cy="293040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02" name="Freeform 11"/>
              <p:cNvSpPr/>
              <p:nvPr/>
            </p:nvSpPr>
            <p:spPr>
              <a:xfrm>
                <a:off x="7147080" y="2556000"/>
                <a:ext cx="2008080" cy="399708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555ba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03" name="Freeform 19"/>
              <p:cNvSpPr/>
              <p:nvPr/>
            </p:nvSpPr>
            <p:spPr>
              <a:xfrm rot="16200000">
                <a:off x="3977280" y="-853200"/>
                <a:ext cx="1722600" cy="342900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555ba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pic>
          <p:nvPicPr>
            <p:cNvPr id="104" name="Picture 7" descr="Facbanna"/>
            <p:cNvPicPr/>
            <p:nvPr/>
          </p:nvPicPr>
          <p:blipFill>
            <a:blip r:embed="rId2"/>
            <a:stretch/>
          </p:blipFill>
          <p:spPr>
            <a:xfrm>
              <a:off x="3240" y="-3240"/>
              <a:ext cx="8031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fcab4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7176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D4A9-36D3-46B1-99E0-F81292DADC78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images.google.com/imgres?imgurl=http://session2005.adventist.org/media-kit/photos/st_louis/st_louis-arch-sky_blue.jpg&amp;imgrefurl=http://session2005.adventist.org/media-kit/photos/st_louis/index.html&amp;h=3024&amp;w=2016&amp;sz=1787&amp;hl=en&amp;start=4&amp;tbnid=iWfIB4GPnEtdpM:&amp;tbnh=150&amp;tbnw=100&amp;prev=/images%3Fq%3Dst%2Blouis%2Barch%26gbv%3D2%26hl%3Den" TargetMode="External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arning-to-lead.org/userimages/leadership(1).jpg&amp;imgrefurl=http://fatihtepe.com/&amp;h=316&amp;w=448&amp;sz=60&amp;hl=en&amp;start=3&amp;um=1&amp;tbnid=ne0Qwx0-w9pSyM:&amp;tbnh=90&amp;tbnw=127&amp;prev=/images%3Fq%3Dleadership%26um%3D1%26hl%3Den%26rls%3Dcom.microsoft:en-us%26sa%3DX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enchgeneralstore.com/bags/img/bag.jpg&amp;imgrefurl=http://www.frenchgeneralstore.com/bags/bags.html&amp;h=550&amp;w=396&amp;sz=103&amp;hl=en&amp;start=7&amp;um=1&amp;tbnid=67rj-Ktz9NJW4M:&amp;tbnh=133&amp;tbnw=96&amp;prev=/images%3Fq%3Dbag%26um%3D1%26hl%3Den%26sa%3DN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ages.google.com/imgres?imgurl=http://www.geekalerts.com/u/small-boombox-bag.jpg&amp;imgrefurl=http://www.geekalerts.com/boombox-bags-for-retro-geeks/&amp;h=435&amp;w=350&amp;sz=30&amp;hl=en&amp;start=2&amp;um=1&amp;tbnid=Y8nqX9RmV4sLeM:&amp;tbnh=126&amp;tbnw=101&amp;prev=/images%3Fq%3Dbag%26um%3D1%26hl%3Den%26sa%3DN" TargetMode="External"/><Relationship Id="rId4" Type="http://schemas.openxmlformats.org/officeDocument/2006/relationships/image" Target="../media/image26.jpeg"/><Relationship Id="rId5" Type="http://schemas.openxmlformats.org/officeDocument/2006/relationships/hyperlink" Target="http://images.google.com/imgres?imgurl=http://www.marloscrochetcorner.com/images/10-4%20cm%20felt%20bag.jpg&amp;imgrefurl=http://www.marloscrochetcorner.com/patterns%20for%20sale.html&amp;h=364&amp;w=400&amp;sz=37&amp;hl=en&amp;start=24&amp;um=1&amp;tbnid=2y1g1QiPy2l5HM:&amp;tbnh=113&amp;tbnw=124&amp;prev=/images%3Fq%3Dbag%26start%3D20%26ndsp%3D20%26um%3D1%26hl%3Den%26sa%3DN" TargetMode="External"/><Relationship Id="rId6" Type="http://schemas.openxmlformats.org/officeDocument/2006/relationships/image" Target="../media/image27.jpeg"/><Relationship Id="rId7" Type="http://schemas.openxmlformats.org/officeDocument/2006/relationships/hyperlink" Target="http://images.google.com/imgres?imgurl=http://www.inprintmarden.co.uk/images/bag-manufacturer-uk.jpg&amp;imgrefurl=http://www.inprintmarden.co.uk/bag-manufacturer.html&amp;h=323&amp;w=354&amp;sz=21&amp;hl=en&amp;start=35&amp;um=1&amp;tbnid=NsR4GWh-j3uo2M:&amp;tbnh=110&amp;tbnw=121&amp;prev=/images%3Fq%3Dbag%26start%3D20%26ndsp%3D20%26um%3D1%26hl%3Den%26sa%3DN" TargetMode="External"/><Relationship Id="rId8" Type="http://schemas.openxmlformats.org/officeDocument/2006/relationships/image" Target="../media/image28.jpeg"/><Relationship Id="rId9" Type="http://schemas.openxmlformats.org/officeDocument/2006/relationships/hyperlink" Target="http://images.google.com/imgres?imgurl=http://www.clowncostumes.com/images/Prop%20Bag.jpg&amp;imgrefurl=http://www.clowncostumes.com/clown_bags_banners.htm&amp;h=951&amp;w=1200&amp;sz=131&amp;hl=en&amp;start=43&amp;um=1&amp;tbnid=2p87YQ2lt5ZazM:&amp;tbnh=119&amp;tbnw=150&amp;prev=/images%3Fq%3Dbag%26start%3D40%26ndsp%3D20%26um%3D1%26hl%3Den%26sa%3DN" TargetMode="External"/><Relationship Id="rId10" Type="http://schemas.openxmlformats.org/officeDocument/2006/relationships/image" Target="../media/image29.jpeg"/><Relationship Id="rId11" Type="http://schemas.openxmlformats.org/officeDocument/2006/relationships/image" Target="../media/image30.jpeg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Synchronize Your Gears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Narrow"/>
              </a:rPr>
              <a:t>What gear are you in?</a:t>
            </a:r>
            <a:br>
              <a:rPr sz="4400"/>
            </a:b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The Relationships of Career Clusters and Program of Study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eer Cluster – NATIONAL </a:t>
            </a:r>
            <a:r>
              <a:rPr b="0" i="1" lang="en-US" sz="1800" spc="-1" strike="noStrike">
                <a:solidFill>
                  <a:srgbClr val="eaeaea"/>
                </a:solidFill>
                <a:latin typeface="Arial Narrow"/>
              </a:rPr>
              <a:t>(Human Services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www.careerclusters.org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An organizing tool that groups occupations and careers based on common knowledge and skills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eer Path – STATE </a:t>
            </a:r>
            <a:r>
              <a:rPr b="0" i="1" lang="en-US" sz="1800" spc="-1" strike="noStrike">
                <a:solidFill>
                  <a:srgbClr val="eaeaea"/>
                </a:solidFill>
                <a:latin typeface="Arial Narrow"/>
              </a:rPr>
              <a:t>(Human Services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Missouri’s model for career development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eer Pathway </a:t>
            </a:r>
            <a:r>
              <a:rPr b="0" i="1" lang="en-US" sz="1800" spc="-1" strike="noStrike">
                <a:solidFill>
                  <a:srgbClr val="eaeaea"/>
                </a:solidFill>
                <a:latin typeface="Arial Narrow"/>
              </a:rPr>
              <a:t>(Early Childhood Development &amp; Services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Listings of occupations that share advanced technical skills and/or common roles within a career cluster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gram of Study </a:t>
            </a:r>
            <a:r>
              <a:rPr b="0" i="1" lang="en-US" sz="1800" spc="-1" strike="noStrike">
                <a:solidFill>
                  <a:srgbClr val="eaeaea"/>
                </a:solidFill>
                <a:latin typeface="Arial Narrow"/>
              </a:rPr>
              <a:t>(To be developed at the local level.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A systematic framework for a new way of doing business in our high schools, colleges, and universities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ersonal Plan of Study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To be developed at the local level for individual students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A student’s scope and sequence of coursework and co-curricular experiences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What does this mean….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A student’s personal plan of study should reflect a program of study, but it should also be individualized for that student’s career interest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t’s more than a job, it’s a career choice for student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is provides our students with opportunities to focus on a career path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Establishing career path relevance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can help to justify your program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7" name="Picture 4" descr="MCj02853980000[1]"/>
          <p:cNvPicPr/>
          <p:nvPr/>
        </p:nvPicPr>
        <p:blipFill>
          <a:blip r:embed="rId1"/>
          <a:stretch/>
        </p:blipFill>
        <p:spPr>
          <a:xfrm>
            <a:off x="6019920" y="4003560"/>
            <a:ext cx="266688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How Does FCCLA Fit In?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CCLA incorporated into a personal plan of study can develop personal qualities such as leadership and teamwork.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eadership skills that students learn in your classroom through FCCLA activities can be assessed and used to further justify your program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0" name="Picture 4" descr="taglinelogobw"/>
          <p:cNvPicPr/>
          <p:nvPr/>
        </p:nvPicPr>
        <p:blipFill>
          <a:blip r:embed="rId1"/>
          <a:stretch/>
        </p:blipFill>
        <p:spPr>
          <a:xfrm>
            <a:off x="3657600" y="4876920"/>
            <a:ext cx="297180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TARGET DATE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-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TARGET DATE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e target date for the implementation of this process…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Within the next 3 year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3" name="Picture 4" descr="ages"/>
          <p:cNvPicPr/>
          <p:nvPr/>
        </p:nvPicPr>
        <p:blipFill>
          <a:blip r:embed="rId1"/>
          <a:stretch/>
        </p:blipFill>
        <p:spPr>
          <a:xfrm>
            <a:off x="5486400" y="2971800"/>
            <a:ext cx="2514600" cy="2125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N3KX8CAO1DRGHCA65ZR4ECA6NNZJBCAPF6DPJCAID6VGGCAVSPFNQCATCUPW5CANK0UI6CAPPUXC0CA83NXNTCAYBVN19CAWRPZ4FCAUL1BR8CAQFL40ECA460HRHCAPLJJ2ZCAJWT2K6CAJN9APOCAV2XA96"/>
          <p:cNvPicPr/>
          <p:nvPr/>
        </p:nvPicPr>
        <p:blipFill>
          <a:blip r:embed="rId2"/>
          <a:stretch/>
        </p:blipFill>
        <p:spPr>
          <a:xfrm>
            <a:off x="2209680" y="35053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What does this mean for you?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Refresh, Energize, and Unite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You don’t have to make these changes on your own…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Family and Consumer Sciences teachers will have the opportunity to support and encourage each other in the design and implementation of curriculum and programs of study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7" name="Picture 4" descr="MCj02379820000[1]"/>
          <p:cNvPicPr/>
          <p:nvPr/>
        </p:nvPicPr>
        <p:blipFill>
          <a:blip r:embed="rId1"/>
          <a:stretch/>
        </p:blipFill>
        <p:spPr>
          <a:xfrm>
            <a:off x="4724280" y="3962520"/>
            <a:ext cx="312444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All Family and Consumer Sciences programs across the state will be united.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IN THIS TOGETHER!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mall and Large Family &amp; Consumer Science Program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ural, Urban, and Inner City Family &amp; Consumer Science Program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9" name="Picture 6" descr="KA22JCAYULATOCAJ9Y5QVCAXQO69NCA127KQGCAXFX2U9CAQA24O8CAM50AJDCA2P8R81CAMG58MPCAT0ORYACA651NGDCAAB7JI3CAJ8LBYYCA3Z11VOCA2AQR1NCA3KYJAJCAUF809PCA5UBS87CA5SVI35"/>
          <p:cNvPicPr/>
          <p:nvPr/>
        </p:nvPicPr>
        <p:blipFill>
          <a:blip r:embed="rId1"/>
          <a:stretch/>
        </p:blipFill>
        <p:spPr>
          <a:xfrm>
            <a:off x="3276720" y="4495680"/>
            <a:ext cx="1752480" cy="1419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st_louis-arch-sky_blu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4419720"/>
            <a:ext cx="1206360" cy="1809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DPI7JCADLX7EWCAL2NOD2CA2EKG8KCARBIC7YCAURL5YICABW5MOJCA1YJ7MQCADRR6HNCAKFZ2FZCAZG41K7CA1WRN5OCA43D3OECA7889OXCAEPTWIXCAILUET6CAS8CQ69CAGBRITLCAO03D32CAH132TI"/>
          <p:cNvPicPr/>
          <p:nvPr/>
        </p:nvPicPr>
        <p:blipFill>
          <a:blip r:embed="rId4"/>
          <a:stretch/>
        </p:blipFill>
        <p:spPr>
          <a:xfrm>
            <a:off x="1371600" y="4495680"/>
            <a:ext cx="1523880" cy="1449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VQ156CA09EYTJCA0UB7N5CAJYZ1Q0CACYQ0KDCAYEZT4QCANJSCUHCAB8ZC2PCAO64N32CAGXU9MWCA6IH695CAK2YOH0CAKGSTBUCANGSPB6CAIPINF3CAMG0UNGCARKEJEBCAPQ99NTCAFQOSTTCAHT5ZJB"/>
          <p:cNvPicPr/>
          <p:nvPr/>
        </p:nvPicPr>
        <p:blipFill>
          <a:blip r:embed="rId5"/>
          <a:stretch/>
        </p:blipFill>
        <p:spPr>
          <a:xfrm>
            <a:off x="6705720" y="449568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Reinforcing What We’re Already Using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Use scoring guides to assess your lessons to increase depth of learning.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FREE Scoring guides are available at mcce.org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igor, Relevance, and Relationship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ritical Thinking Skill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CCLA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05" name="Picture 4" descr="bd04996_"/>
          <p:cNvPicPr/>
          <p:nvPr/>
        </p:nvPicPr>
        <p:blipFill>
          <a:blip r:embed="rId1"/>
          <a:stretch/>
        </p:blipFill>
        <p:spPr>
          <a:xfrm>
            <a:off x="5410080" y="4191120"/>
            <a:ext cx="243864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We Want To Challenge You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Get into gear….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Arial Narrow"/>
              </a:rPr>
              <a:t>As Missouri seamlessly adopts the National Standards, this means…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 Narrow"/>
              </a:rPr>
              <a:t>You will have fewer but broader standards to teach.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 Narrow"/>
              </a:rPr>
              <a:t>More individuality in lesson                   plan design.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08" name="Picture 4" descr="MCj04315260000[1]"/>
          <p:cNvPicPr/>
          <p:nvPr/>
        </p:nvPicPr>
        <p:blipFill>
          <a:blip r:embed="rId1"/>
          <a:stretch/>
        </p:blipFill>
        <p:spPr>
          <a:xfrm>
            <a:off x="5029200" y="1295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MCj04315260000[1]"/>
          <p:cNvPicPr/>
          <p:nvPr/>
        </p:nvPicPr>
        <p:blipFill>
          <a:blip r:embed="rId2"/>
          <a:stretch/>
        </p:blipFill>
        <p:spPr>
          <a:xfrm>
            <a:off x="7010280" y="46483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914400" y="228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eaea"/>
                </a:solidFill>
                <a:uFillTx/>
                <a:latin typeface="Arial Narrow"/>
              </a:rPr>
              <a:t>It is imperative that what you teach builds a family foundation AND leads to a career.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et it be known that what you are teaching…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Leads to a care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s part of the solution to family life issues that are happening all over the nation 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1" name="WordArt 5"/>
          <p:cNvSpPr txBox="1"/>
          <p:nvPr/>
        </p:nvSpPr>
        <p:spPr>
          <a:xfrm>
            <a:off x="380880" y="3733920"/>
            <a:ext cx="26575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ankrupc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12" name="WordArt 6"/>
          <p:cNvSpPr txBox="1"/>
          <p:nvPr/>
        </p:nvSpPr>
        <p:spPr>
          <a:xfrm>
            <a:off x="304920" y="3352680"/>
            <a:ext cx="1523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besit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WordArt 8"/>
          <p:cNvSpPr txBox="1"/>
          <p:nvPr/>
        </p:nvSpPr>
        <p:spPr>
          <a:xfrm>
            <a:off x="6019920" y="5257800"/>
            <a:ext cx="2514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im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nage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14" name="WordArt 9"/>
          <p:cNvSpPr txBox="1"/>
          <p:nvPr/>
        </p:nvSpPr>
        <p:spPr>
          <a:xfrm>
            <a:off x="3657600" y="3809880"/>
            <a:ext cx="1295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ivorc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WordArt 10"/>
          <p:cNvSpPr txBox="1"/>
          <p:nvPr/>
        </p:nvSpPr>
        <p:spPr>
          <a:xfrm>
            <a:off x="1295280" y="4724280"/>
            <a:ext cx="24386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hild Abus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6" name="WordArt 11"/>
          <p:cNvSpPr txBox="1"/>
          <p:nvPr/>
        </p:nvSpPr>
        <p:spPr>
          <a:xfrm>
            <a:off x="3962520" y="4952880"/>
            <a:ext cx="25905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ubstance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bus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WordArt 12"/>
          <p:cNvSpPr txBox="1"/>
          <p:nvPr/>
        </p:nvSpPr>
        <p:spPr>
          <a:xfrm>
            <a:off x="6172200" y="3733920"/>
            <a:ext cx="23432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ncarceration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7720" y="1371240"/>
            <a:ext cx="5791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hat does YOUR community need?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ind out…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Advisory committe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Career data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Employability skills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igh Skill, High Wage, or High Demand occupations is our target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e need to teach what data indicates is needed, not what we traditionally like or are comfortable teaching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Data Drives What is Taught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pic>
        <p:nvPicPr>
          <p:cNvPr id="220" name="Picture 8" descr="RIWRHCAFJF3Z1CARSCU7HCATVDOL7CA5B49H0CASH1CV8CAM37U0XCA1RC9XFCA3S3O5MCAGSU2ARCAQCNIRRCAUPCPSCCAVMMXT2CAQ2CUQSCAG14RI1CA42CGX5CAJXRJOECALH64IOCAZAR1XWCAFW0UNK"/>
          <p:cNvPicPr/>
          <p:nvPr/>
        </p:nvPicPr>
        <p:blipFill>
          <a:blip r:embed="rId1"/>
          <a:stretch/>
        </p:blipFill>
        <p:spPr>
          <a:xfrm>
            <a:off x="6019920" y="1676520"/>
            <a:ext cx="266688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The Big Picture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Where we’ve been.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Where we are.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Where we are going. 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7" name="Picture 4" descr="MCj02313910000[1]"/>
          <p:cNvPicPr/>
          <p:nvPr/>
        </p:nvPicPr>
        <p:blipFill>
          <a:blip r:embed="rId1"/>
          <a:stretch/>
        </p:blipFill>
        <p:spPr>
          <a:xfrm>
            <a:off x="5029200" y="1523880"/>
            <a:ext cx="373392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Work of the Family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marL="106200" indent="-1062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The ultimate human service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106200" indent="-106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100% demand.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Elevator Speech / 30 Second Speech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106200" indent="-1062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Components of Work &amp; Family Life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Relationship Skill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uman Developme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ealth &amp; Wellnes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inancial Competenc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Leadership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ritical Thinking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blem Solving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106200" indent="-1062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n addition, an integral part of the Family and Consumer Sciences curriculum is the student organization Family, Career &amp; Community Leaders of America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Learning leadership skills through FCCLA.</a:t>
            </a: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Leadership Skill Development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106200" indent="-1062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n this training module you will learn about…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ore Leadership Skills Components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 student benefits of leadership skill development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 community/school benefits of leadership skills development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Be sure to attend the leadership skill module as we have new specific leadership skills that need to be taught and assessed. </a:t>
            </a: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History &amp; Rationale for Change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106200" indent="-1062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n this training module you will learn about…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 reasons for the chang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354240" indent="-70560">
              <a:lnSpc>
                <a:spcPct val="90000"/>
              </a:lnSpc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ederal, State, and Perkins legislation is driving these changes.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2" marL="354240" indent="-70560">
              <a:lnSpc>
                <a:spcPct val="90000"/>
              </a:lnSpc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ocietal changes drives curriculum.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2" marL="354240" indent="-70560">
              <a:lnSpc>
                <a:spcPct val="90000"/>
              </a:lnSpc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Labor market data drives what is being taught and offered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uture will be family focused, career focused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354240" indent="-70560">
              <a:lnSpc>
                <a:spcPct val="90000"/>
              </a:lnSpc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Increase rigor, relevance, and relationships.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2" marL="354240" indent="-70560">
              <a:lnSpc>
                <a:spcPct val="90000"/>
              </a:lnSpc>
              <a:spcBef>
                <a:spcPts val="451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Improves Family and Consumer Sciences programs to prepare students for a viable career</a:t>
            </a:r>
            <a:r>
              <a:rPr b="0" lang="en-US" sz="1800" spc="-1" strike="noStrike">
                <a:solidFill>
                  <a:srgbClr val="eaeaea"/>
                </a:solidFill>
                <a:latin typeface="Arial Narrow"/>
              </a:rPr>
              <a:t>Programs of Study Models 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Arial Narrow"/>
              </a:rPr>
              <a:t>- THE FINAL LINK -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marL="106200" indent="-1062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n this training module, you will learn…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ow to put together all of the training pieces you’ve learned at the different training module workshops: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354240" indent="-70560">
              <a:lnSpc>
                <a:spcPct val="90000"/>
              </a:lnSpc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How the components of the program of study will work for students in the community where you teach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2" marL="354240" indent="-70560">
              <a:lnSpc>
                <a:spcPct val="90000"/>
              </a:lnSpc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Making a seamless educational program offering your students more opportunities. 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2" marL="354240" indent="-70560">
              <a:lnSpc>
                <a:spcPct val="90000"/>
              </a:lnSpc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Helping students link current coursework with possible career pathways.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23" name="Picture 5" descr="FamilyFrontPage3"/>
          <p:cNvPicPr/>
          <p:nvPr/>
        </p:nvPicPr>
        <p:blipFill>
          <a:blip r:embed="rId1"/>
          <a:stretch/>
        </p:blipFill>
        <p:spPr>
          <a:xfrm>
            <a:off x="3886200" y="2590920"/>
            <a:ext cx="464832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So….now what? 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What do we do with all of 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this information?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4876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ritical thinking, problem solving, and the process skills are still just as important as ever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y are the </a:t>
            </a: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foundation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of our curriculum.  It’s easy to say we are using these skills every day in our classrooms but are we REALLY?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re we challenging our students each and every day to be an innovative and authentic learner? 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26" name="Picture 6" descr="NowWhat"/>
          <p:cNvPicPr/>
          <p:nvPr/>
        </p:nvPicPr>
        <p:blipFill>
          <a:blip r:embed="rId1"/>
          <a:stretch/>
        </p:blipFill>
        <p:spPr>
          <a:xfrm>
            <a:off x="5867280" y="2514600"/>
            <a:ext cx="2921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42674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It’s important that as leaders in the model for what education </a:t>
            </a: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should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be that each and every one of us remains constant in our teaching of these skills – remember we are models to others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e want to maintain our status as leaders of innovative thinking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Each person needs to stay diligent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28" name="Picture 5" descr="leadership(1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2362320"/>
            <a:ext cx="30481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Be a Gear Head – Bag Your Stuff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Be sure to keep all of the hand outs and information you get regarding these topics in the same location for easy acces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31" name="Picture 5" descr="b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3048120"/>
            <a:ext cx="914400" cy="12668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small-boombox-ba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9320" y="3276720"/>
            <a:ext cx="1342800" cy="1676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10-4%2520cm%2520felt%2520ba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19520" y="4572000"/>
            <a:ext cx="1752480" cy="1596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bag-manufacturer-uk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24280" y="3505320"/>
            <a:ext cx="1152720" cy="10476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3" descr="Prop%2520Ba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257800" y="4800600"/>
            <a:ext cx="1752480" cy="1390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5" descr="polka-dot-diaper-bag"/>
          <p:cNvPicPr/>
          <p:nvPr/>
        </p:nvPicPr>
        <p:blipFill>
          <a:blip r:embed="rId11"/>
          <a:stretch/>
        </p:blipFill>
        <p:spPr>
          <a:xfrm>
            <a:off x="7391520" y="4572000"/>
            <a:ext cx="13158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Remember……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ALL on the same path.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You are not alone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ALL in this together.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39" name="Picture 4" descr="MCj02379820000[1]"/>
          <p:cNvPicPr/>
          <p:nvPr/>
        </p:nvPicPr>
        <p:blipFill>
          <a:blip r:embed="rId1"/>
          <a:stretch/>
        </p:blipFill>
        <p:spPr>
          <a:xfrm>
            <a:off x="4876920" y="3352680"/>
            <a:ext cx="3352680" cy="2900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together"/>
          <p:cNvPicPr/>
          <p:nvPr/>
        </p:nvPicPr>
        <p:blipFill>
          <a:blip r:embed="rId2"/>
          <a:stretch/>
        </p:blipFill>
        <p:spPr>
          <a:xfrm>
            <a:off x="1523880" y="3657600"/>
            <a:ext cx="3124440" cy="2455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working%2520together"/>
          <p:cNvPicPr/>
          <p:nvPr/>
        </p:nvPicPr>
        <p:blipFill>
          <a:blip r:embed="rId3"/>
          <a:stretch/>
        </p:blipFill>
        <p:spPr>
          <a:xfrm>
            <a:off x="6324480" y="533520"/>
            <a:ext cx="18637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838080" y="533520"/>
            <a:ext cx="8305920" cy="74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700" spc="-1" strike="noStrike">
                <a:solidFill>
                  <a:srgbClr val="eaeaea"/>
                </a:solidFill>
                <a:latin typeface="Arial Narrow"/>
              </a:rPr>
              <a:t>Activity</a:t>
            </a:r>
            <a:r>
              <a:rPr b="0" lang="en-US" sz="12100" spc="-1" strike="noStrike">
                <a:solidFill>
                  <a:srgbClr val="eaeaea"/>
                </a:solidFill>
                <a:latin typeface="Arial Narrow"/>
              </a:rPr>
              <a:t>: </a:t>
            </a:r>
            <a:endParaRPr b="0" lang="en-US" sz="121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100" spc="-1" strike="noStrike">
                <a:solidFill>
                  <a:srgbClr val="eaeaea"/>
                </a:solidFill>
                <a:latin typeface="Arial Narrow"/>
              </a:rPr>
              <a:t>What Gear are you in???</a:t>
            </a:r>
            <a:endParaRPr b="0" lang="en-US" sz="121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1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Family &amp; Consumer Sciences –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Impact"/>
              </a:rPr>
              <a:t>Be proud of what’s been accomplished!</a:t>
            </a:r>
            <a:endParaRPr b="0" lang="en-US" sz="36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 Narrow"/>
              </a:rPr>
              <a:t>Then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 Narrow"/>
              </a:rPr>
              <a:t>Now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 Narrow"/>
              </a:rPr>
              <a:t>Life Expectancy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47.3 years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77.8 year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 Narrow"/>
              </a:rPr>
              <a:t>Education Beyond High School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.9%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26.6%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 Narrow"/>
              </a:rPr>
              <a:t>Goals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Improve Quality of Life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Prepare students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    for the work of          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     the family and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 careers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2438280" y="2895480"/>
            <a:ext cx="4876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2286000" y="4038480"/>
            <a:ext cx="4876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2286000" y="5486400"/>
            <a:ext cx="4876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Object 1" descr=""/>
          <p:cNvPicPr/>
          <p:nvPr/>
        </p:nvPicPr>
        <p:blipFill>
          <a:blip r:embed="rId1"/>
          <a:srcRect l="-1361" t="-1885" r="-1256" b="-20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Rounded Rectangle 27"/>
          <p:cNvSpPr/>
          <p:nvPr/>
        </p:nvSpPr>
        <p:spPr>
          <a:xfrm>
            <a:off x="0" y="6324480"/>
            <a:ext cx="68580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Gears in the System…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Birth-12 Certification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Individual and Famil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ommunity and Care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cess Skill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amily Focus Cours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eer Focus Cours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ual Purpose Cours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how Me Goals and Standard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CCL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grams of Stud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67" name="Picture 6" descr="j0329925"/>
          <p:cNvPicPr/>
          <p:nvPr/>
        </p:nvPicPr>
        <p:blipFill>
          <a:blip r:embed="rId1"/>
          <a:stretch/>
        </p:blipFill>
        <p:spPr>
          <a:xfrm>
            <a:off x="4648320" y="1600200"/>
            <a:ext cx="411480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Program of Study (POS)  -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                                     NOT a Dirty Word!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ahead of other curriculum area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LEADERS and we want to stay that way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rogram credibility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Missouri is the process of seamlessly adopting National Family and Consumer Sciences Standard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National end of program assessments will be put in place at the local level by 2011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4114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Focusing on a career path will provide more opportunities for your students AND your Family and Consumer Sciences program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We need to have this in place, ready to go, because as you well know, Family and Consumer Sciences programs are constantly under scrutiny.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71" name="Picture 6" descr="images"/>
          <p:cNvPicPr/>
          <p:nvPr/>
        </p:nvPicPr>
        <p:blipFill>
          <a:blip r:embed="rId1"/>
          <a:stretch/>
        </p:blipFill>
        <p:spPr>
          <a:xfrm>
            <a:off x="5562720" y="1752480"/>
            <a:ext cx="289548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What Does POS Mean to You?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Missouri has chosen the Career Clusters Framework to organize and implement its programs of study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74" name="Picture 4" descr="MCj03326800000[1]"/>
          <p:cNvPicPr/>
          <p:nvPr/>
        </p:nvPicPr>
        <p:blipFill>
          <a:blip r:embed="rId1"/>
          <a:stretch/>
        </p:blipFill>
        <p:spPr>
          <a:xfrm>
            <a:off x="4572000" y="2971800"/>
            <a:ext cx="36576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Object 4"/>
          <p:cNvGraphicFramePr/>
          <p:nvPr/>
        </p:nvGraphicFramePr>
        <p:xfrm>
          <a:off x="1922400" y="0"/>
          <a:ext cx="512460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0" y="0"/>
                    <a:ext cx="51246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Line 5"/>
          <p:cNvSpPr/>
          <p:nvPr/>
        </p:nvSpPr>
        <p:spPr>
          <a:xfrm flipV="1">
            <a:off x="5410080" y="2209680"/>
            <a:ext cx="2286000" cy="4572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772400" y="1828800"/>
            <a:ext cx="10666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ab40"/>
                </a:solidFill>
                <a:latin typeface="Arial Narrow"/>
              </a:rPr>
              <a:t>Career Path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9" name="Line 7"/>
          <p:cNvSpPr/>
          <p:nvPr/>
        </p:nvSpPr>
        <p:spPr>
          <a:xfrm flipV="1">
            <a:off x="6248520" y="761760"/>
            <a:ext cx="1600200" cy="759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7924680" y="457200"/>
            <a:ext cx="9144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ab40"/>
                </a:solidFill>
                <a:latin typeface="Arial Narrow"/>
              </a:rPr>
              <a:t>Career</a:t>
            </a:r>
            <a:r>
              <a:rPr b="0" lang="en-US" sz="18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cab40"/>
                </a:solidFill>
                <a:latin typeface="Arial Narrow"/>
              </a:rPr>
              <a:t>Cluster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6400800" y="3352680"/>
            <a:ext cx="91440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467480" y="3200400"/>
            <a:ext cx="106704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ab40"/>
                </a:solidFill>
                <a:latin typeface="Arial Narrow"/>
              </a:rPr>
              <a:t>Career Pathway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20:33:37Z</dcterms:created>
  <dc:creator>Carthage R9</dc:creator>
  <dc:description/>
  <cp:keywords/>
  <dc:language>en-US</dc:language>
  <cp:lastModifiedBy>carendt</cp:lastModifiedBy>
  <cp:lastPrinted>2009-04-22T19:24:48Z</cp:lastPrinted>
  <dcterms:modified xsi:type="dcterms:W3CDTF">2008-11-03T20:36:08Z</dcterms:modified>
  <cp:revision>10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81033</vt:lpwstr>
  </property>
</Properties>
</file>